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2.png" ContentType="image/png"/>
  <Override PartName="/ppt/media/image24.jpeg" ContentType="image/jpeg"/>
  <Override PartName="/ppt/media/image14.jpeg" ContentType="image/jpeg"/>
  <Override PartName="/ppt/media/image8.png" ContentType="image/png"/>
  <Override PartName="/ppt/media/image20.png" ContentType="image/png"/>
  <Override PartName="/ppt/media/image7.jpeg" ContentType="image/jpeg"/>
  <Override PartName="/ppt/media/image28.png" ContentType="image/png"/>
  <Override PartName="/ppt/media/image29.jpeg" ContentType="image/jpeg"/>
  <Override PartName="/ppt/media/image5.png" ContentType="image/png"/>
  <Override PartName="/ppt/media/image10.jpeg" ContentType="image/jpeg"/>
  <Override PartName="/ppt/media/image12.jpeg" ContentType="image/jpeg"/>
  <Override PartName="/ppt/media/image9.png" ContentType="image/png"/>
  <Override PartName="/ppt/media/image11.jpeg" ContentType="image/jpeg"/>
  <Override PartName="/ppt/media/image13.jpeg" ContentType="image/jpeg"/>
  <Override PartName="/ppt/media/image31.jpeg" ContentType="image/jpeg"/>
  <Override PartName="/ppt/media/image4.jpeg" ContentType="image/jpeg"/>
  <Override PartName="/ppt/media/image6.jpeg" ContentType="image/jpeg"/>
  <Override PartName="/ppt/media/image27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0.png" ContentType="image/png"/>
  <Override PartName="/ppt/media/image3.jpeg" ContentType="image/jpeg"/>
  <Override PartName="/ppt/media/image1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26.png" ContentType="image/png"/>
  <Override PartName="/ppt/media/image18.jpeg" ContentType="image/jpeg"/>
  <Override PartName="/ppt/media/image19.jpeg" ContentType="image/jpeg"/>
  <Override PartName="/ppt/media/image2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9371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102800" cy="9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80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4022280" y="-360"/>
            <a:ext cx="307836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209240" y="703440"/>
            <a:ext cx="4683240" cy="351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709200" y="4449240"/>
            <a:ext cx="5683320" cy="4216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0" y="8899200"/>
            <a:ext cx="30780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4022280" y="8899200"/>
            <a:ext cx="307836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A898-032D-4335-84A6-B3F2EFEBE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209600" y="703440"/>
            <a:ext cx="4683240" cy="35128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9200" y="4449240"/>
            <a:ext cx="568332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4022640" y="8899560"/>
            <a:ext cx="3078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FA9B-171C-4D43-BC4B-E8FBC7B1F8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09600" y="703440"/>
            <a:ext cx="4683240" cy="35128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9200" y="4449240"/>
            <a:ext cx="568332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4022640" y="8899560"/>
            <a:ext cx="3078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C6AB-7C2B-4725-9D49-455193872C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09600" y="703440"/>
            <a:ext cx="4683240" cy="35128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9200" y="4449240"/>
            <a:ext cx="568332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022640" y="8899560"/>
            <a:ext cx="3078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17B0-323E-492E-A9D7-CD122D2D65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09600" y="703440"/>
            <a:ext cx="4683240" cy="35128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9200" y="4449240"/>
            <a:ext cx="568332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4022640" y="8899560"/>
            <a:ext cx="3078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026C-9CC0-486B-8212-C9941BE9F9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D8E3-54F0-4B0D-9350-1CAE4FB50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425B-F7C0-4A76-9930-72845A4F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FAB2-B8C4-4C94-A5D4-DE9741B74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3C1E-6EDB-4476-828D-843901174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EDDB-AC50-42EC-951F-D78DD2CCE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781E-DEA5-484A-903C-4BBEC9E0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0509-7A5B-4D9F-AE84-61900F3A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33CC-59B3-4877-8659-5BA26A73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E8A2-B03D-46E0-B2AB-9440F979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8063-54AF-4FAC-AA04-49D9EB0F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548B-31AF-43BF-BE6F-553344B5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BE08-55C0-4971-A5DB-F8EEDBC5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DC1D-7370-4D56-A059-490CF3DF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150D-4E21-45D5-ABC8-46CE2BAC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82B30-6D08-48C4-A692-389B36C9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CC36-ABA6-444B-B25F-64A2D50F2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16C1-6B4C-4641-9A70-EE131C5FC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A72E2-D7CF-4C42-AF60-727CF4BBD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044F8-C78E-4750-AB7D-65F4AEF5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6E508-951C-4D3C-8DDC-F124CB1E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91A18-EB0B-4B58-8755-2BFD0C1C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93309-FB32-48BA-A3F2-7017FD02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3928-DD1F-4589-880F-093FEA76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A6ABF-AE28-416D-BF3A-1D5A9176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EDD62-03FB-4219-BAFE-FCB161A5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52668-5A07-4571-9988-185D33C0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1BF76-9BA4-4AE0-AFFB-1805FB39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3599B-29BE-4267-BA1E-02771EB3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BC459-86C4-4720-AAE5-19D5BC249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93B0F-9EF2-4DEF-9A92-A1BD23C8D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F496-1591-4F9A-AA53-CA78F929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C9EF-BB02-48D7-A152-A5173CC7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3BE8-4130-4A33-9068-AC8EAEC2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CFAF-6CEF-406C-8CD8-6F1D514A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1C1F-4C75-4262-BF50-544A7BE4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CD0E-A549-40B6-B79A-E7D5E0F4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EBFD-DB9B-4DDD-A041-8ADA08AB9A6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8944-FA03-4FC3-8D1B-4AC26035653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6C7A-F444-4351-9811-B4F9B45EA11F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png"/><Relationship Id="rId8" Type="http://schemas.openxmlformats.org/officeDocument/2006/relationships/image" Target="../media/image27.jpeg"/><Relationship Id="rId9" Type="http://schemas.openxmlformats.org/officeDocument/2006/relationships/image" Target="../media/image28.png"/><Relationship Id="rId10" Type="http://schemas.openxmlformats.org/officeDocument/2006/relationships/image" Target="../media/image29.jpeg"/><Relationship Id="rId11" Type="http://schemas.openxmlformats.org/officeDocument/2006/relationships/image" Target="../media/image30.png"/><Relationship Id="rId12" Type="http://schemas.openxmlformats.org/officeDocument/2006/relationships/image" Target="../media/image31.jpeg"/><Relationship Id="rId1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89d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itle 1"/>
          <p:cNvSpPr/>
          <p:nvPr/>
        </p:nvSpPr>
        <p:spPr>
          <a:xfrm>
            <a:off x="7920" y="2776680"/>
            <a:ext cx="914400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6324"/>
                </a:solidFill>
                <a:latin typeface="Calibri"/>
                <a:ea typeface="Arial"/>
              </a:rPr>
              <a:t>Will SEID Diagnostic Criteria Improve</a:t>
            </a:r>
            <a:br>
              <a:rPr sz="3600"/>
            </a:br>
            <a:r>
              <a:rPr b="1" lang="en-US" sz="3600" spc="-1" strike="noStrike">
                <a:solidFill>
                  <a:srgbClr val="f16324"/>
                </a:solidFill>
                <a:latin typeface="Calibri"/>
                <a:ea typeface="Arial"/>
              </a:rPr>
              <a:t>Diagnosis and Treatmen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8" descr="CFSME_logomain.jpg"/>
          <p:cNvPicPr/>
          <p:nvPr/>
        </p:nvPicPr>
        <p:blipFill>
          <a:blip r:embed="rId1"/>
          <a:srcRect l="4063" t="15699" r="0" b="0"/>
          <a:stretch/>
        </p:blipFill>
        <p:spPr>
          <a:xfrm>
            <a:off x="1141560" y="419040"/>
            <a:ext cx="7116480" cy="1873440"/>
          </a:xfrm>
          <a:prstGeom prst="rect">
            <a:avLst/>
          </a:prstGeom>
          <a:ln w="0">
            <a:noFill/>
          </a:ln>
        </p:spPr>
      </p:pic>
      <p:sp>
        <p:nvSpPr>
          <p:cNvPr id="135" name="Subtitle 2"/>
          <p:cNvSpPr/>
          <p:nvPr/>
        </p:nvSpPr>
        <p:spPr>
          <a:xfrm>
            <a:off x="39600" y="2100240"/>
            <a:ext cx="91440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3340"/>
                </a:solidFill>
                <a:latin typeface="Calibri"/>
                <a:ea typeface="Arial"/>
              </a:rPr>
              <a:t>2015 Webinar Series </a:t>
            </a:r>
            <a:r>
              <a:rPr b="0" lang="en-US" sz="2400" spc="-1" strike="noStrike">
                <a:solidFill>
                  <a:srgbClr val="313340"/>
                </a:solidFill>
                <a:latin typeface="Calibri"/>
                <a:ea typeface="Arial"/>
              </a:rPr>
              <a:t>|</a:t>
            </a:r>
            <a:r>
              <a:rPr b="1" lang="en-US" sz="2400" spc="-1" strike="noStrike">
                <a:solidFill>
                  <a:srgbClr val="31334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313340"/>
                </a:solidFill>
                <a:latin typeface="Calibri"/>
                <a:ea typeface="Arial"/>
              </a:rPr>
              <a:t>Friday, April 17, 2015 | 1:00 PM Easte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30"/>
          <p:cNvSpPr/>
          <p:nvPr/>
        </p:nvSpPr>
        <p:spPr>
          <a:xfrm>
            <a:off x="39600" y="4390920"/>
            <a:ext cx="75232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ucinda Bateman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atigue Consultation Clinic Foun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Leading ME/CFS Expe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Box 2"/>
          <p:cNvSpPr/>
          <p:nvPr/>
        </p:nvSpPr>
        <p:spPr>
          <a:xfrm>
            <a:off x="471600" y="6054840"/>
            <a:ext cx="35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16324"/>
                </a:solidFill>
                <a:uFillTx/>
                <a:latin typeface="Arial Narrow"/>
              </a:rPr>
              <a:t>www.SolveCFS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Theme image"/>
          <p:cNvPicPr/>
          <p:nvPr/>
        </p:nvPicPr>
        <p:blipFill>
          <a:blip r:embed="rId2"/>
          <a:stretch/>
        </p:blipFill>
        <p:spPr>
          <a:xfrm>
            <a:off x="6532560" y="4278240"/>
            <a:ext cx="146520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 PURPOSE OF THE IOM REPORT IS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O IMPROVE CLINICAL DIAGNOSI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nstantia"/>
              </a:rPr>
              <a:t>The charge to the IOM committee was to recommend </a:t>
            </a:r>
            <a:r>
              <a:rPr b="0" lang="en-US" sz="2000" spc="-1" strike="noStrike" u="sng">
                <a:solidFill>
                  <a:srgbClr val="00ffff"/>
                </a:solidFill>
                <a:uFillTx/>
                <a:latin typeface="Constantia"/>
              </a:rPr>
              <a:t>clinical diagnostic criteria</a:t>
            </a:r>
            <a:r>
              <a:rPr b="0" lang="en-US" sz="2000" spc="-1" strike="noStrike">
                <a:solidFill>
                  <a:srgbClr val="00ffff"/>
                </a:solidFill>
                <a:latin typeface="Constantia"/>
              </a:rPr>
              <a:t> that would address the needs of health care providers, patients, and their caregivers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dedede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Constantia"/>
              </a:rPr>
              <a:t>Identify the</a:t>
            </a:r>
            <a:r>
              <a:rPr b="0" lang="en-US" sz="1800" spc="-1" strike="noStrike">
                <a:solidFill>
                  <a:srgbClr val="ffcc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Constantia"/>
              </a:rPr>
              <a:t>evidence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for the clinical diagnostic criteria described in the existing case definitions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evelop evidence-based </a:t>
            </a:r>
            <a:r>
              <a:rPr b="1" lang="en-US" sz="1800" spc="-1" strike="noStrike">
                <a:solidFill>
                  <a:srgbClr val="ffc000"/>
                </a:solidFill>
                <a:latin typeface="Constantia"/>
              </a:rPr>
              <a:t>clinical diagnostic criteria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Recommend whether </a:t>
            </a:r>
            <a:r>
              <a:rPr b="1" lang="en-US" sz="1800" spc="-1" strike="noStrike">
                <a:solidFill>
                  <a:srgbClr val="ffcc00"/>
                </a:solidFill>
                <a:latin typeface="Constantia"/>
              </a:rPr>
              <a:t>new terminology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for ME/CFS should be adopted (i.e. the new name---SEID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evelop an </a:t>
            </a:r>
            <a:r>
              <a:rPr b="1" lang="en-US" sz="1800" spc="-1" strike="noStrike">
                <a:solidFill>
                  <a:srgbClr val="ffc000"/>
                </a:solidFill>
                <a:latin typeface="Constantia"/>
              </a:rPr>
              <a:t>outreach strategy for disseminating the new criteria nationwide</a:t>
            </a:r>
            <a:r>
              <a:rPr b="0" lang="en-US" sz="1800" spc="-1" strike="noStrike">
                <a:solidFill>
                  <a:srgbClr val="ffc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to health professionals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nstantia"/>
              </a:rPr>
              <a:t>The committee was </a:t>
            </a:r>
            <a:r>
              <a:rPr b="0" lang="en-US" sz="1800" spc="-1" strike="noStrike" u="sng">
                <a:solidFill>
                  <a:srgbClr val="00ffff"/>
                </a:solidFill>
                <a:uFillTx/>
                <a:latin typeface="Constantia"/>
              </a:rPr>
              <a:t>not</a:t>
            </a:r>
            <a:r>
              <a:rPr b="0" lang="en-US" sz="1800" spc="-1" strike="noStrike">
                <a:solidFill>
                  <a:srgbClr val="00ffff"/>
                </a:solidFill>
                <a:latin typeface="Constantia"/>
              </a:rPr>
              <a:t> asked to investigate the etiology, 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nstantia"/>
              </a:rPr>
              <a:t>pathophysiology, pathogenesis, or treatment  of ME/CFS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69" name="Picture 6" descr="C:\Users\Cindy\AppData\Local\Microsoft\Windows\Temporary Internet Files\Content.IE5\VI67O60H\magnifying-glass-over-document[1].png"/>
          <p:cNvPicPr/>
          <p:nvPr/>
        </p:nvPicPr>
        <p:blipFill>
          <a:blip r:embed="rId1"/>
          <a:stretch/>
        </p:blipFill>
        <p:spPr>
          <a:xfrm rot="571800">
            <a:off x="6858000" y="4876920"/>
            <a:ext cx="175248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PURPOSE OF IOM REPORT IS TO IMPROVE CLINICAL DIAGNOS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80880" y="213372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he committee decided that new diagnostic criteria which are more focused on the </a:t>
            </a:r>
            <a:r>
              <a:rPr b="0" lang="en-US" sz="2400" spc="-1" strike="noStrike">
                <a:solidFill>
                  <a:srgbClr val="ffc000"/>
                </a:solidFill>
                <a:latin typeface="Constantia"/>
              </a:rPr>
              <a:t>common core symptoms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of ME/CFS  are warranted for this disorder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he goal is that these </a:t>
            </a:r>
            <a:r>
              <a:rPr b="0" lang="en-US" sz="2400" spc="-1" strike="noStrike">
                <a:solidFill>
                  <a:srgbClr val="ffc000"/>
                </a:solidFill>
                <a:latin typeface="Constantia"/>
              </a:rPr>
              <a:t>more focused diagnostic criteria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will make it easier for clinicians to recognize and accurately diagnose patients in a timely manner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2" name="Picture 22" descr="C:\Users\Cindy\AppData\Local\Microsoft\Windows\Temporary Internet Files\Content.IE5\C1ELRH1Z\bulls-eye[1].jpg"/>
          <p:cNvPicPr/>
          <p:nvPr/>
        </p:nvPicPr>
        <p:blipFill>
          <a:blip r:embed="rId1"/>
          <a:stretch/>
        </p:blipFill>
        <p:spPr>
          <a:xfrm>
            <a:off x="4114800" y="4952880"/>
            <a:ext cx="111744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alibri"/>
              </a:rPr>
              <a:t>SEID</a:t>
            </a: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/SYSTEMIC EXERTION INTOLERANCE DISEASE</a:t>
            </a:r>
            <a:br>
              <a:rPr sz="28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AGNOSTIC CRITER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alibri"/>
                <a:ea typeface="Arial"/>
              </a:rPr>
              <a:t>1)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ffc000"/>
                </a:solidFill>
                <a:latin typeface="Calibri"/>
                <a:ea typeface="Arial"/>
              </a:rPr>
              <a:t>Substantial reduction or impairment of function</a:t>
            </a:r>
            <a:r>
              <a:rPr b="0" lang="en-US" sz="1800" spc="-1" strike="noStrike">
                <a:solidFill>
                  <a:srgbClr val="ffc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Calibri"/>
                <a:ea typeface="Arial"/>
              </a:rPr>
              <a:t>with fatigue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(Fatigue and its Impact on Function, pg 73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alibri"/>
                <a:ea typeface="Arial"/>
              </a:rPr>
              <a:t>2)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 </a:t>
            </a:r>
            <a:r>
              <a:rPr b="1" lang="en-US" sz="1800" spc="-1" strike="noStrike">
                <a:solidFill>
                  <a:srgbClr val="ffc000"/>
                </a:solidFill>
                <a:latin typeface="Calibri"/>
                <a:ea typeface="Arial"/>
              </a:rPr>
              <a:t>Post-exertional malaise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(pg 78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Calibri"/>
                <a:ea typeface="Arial"/>
              </a:rPr>
              <a:t>3)</a:t>
            </a:r>
            <a:r>
              <a:rPr b="1" lang="en-US" sz="1800" spc="-1" strike="noStrike">
                <a:solidFill>
                  <a:srgbClr val="ffc000"/>
                </a:solidFill>
                <a:latin typeface="Calibri"/>
                <a:ea typeface="Arial"/>
              </a:rPr>
              <a:t>  Unrefreshing sleep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 (Sleep-Related Symptoms, pg 86)   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     </a:t>
            </a:r>
            <a:r>
              <a:rPr b="0" i="1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...are almost always present based on the existing evidence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alibri"/>
                <a:ea typeface="Arial"/>
              </a:rPr>
              <a:t>4)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ffc000"/>
                </a:solidFill>
                <a:latin typeface="Calibri"/>
                <a:ea typeface="Arial"/>
              </a:rPr>
              <a:t>Cognitive impairment</a:t>
            </a:r>
            <a:r>
              <a:rPr b="0" lang="en-US" sz="1800" spc="-1" strike="noStrike">
                <a:solidFill>
                  <a:srgbClr val="ffc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(Neurocognitive Manifestations, pg 96) and/or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alibri"/>
                <a:ea typeface="Arial"/>
              </a:rPr>
              <a:t>5)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ffc000"/>
                </a:solidFill>
                <a:latin typeface="Calibri"/>
                <a:ea typeface="Arial"/>
              </a:rPr>
              <a:t>Orthostatic intolerance</a:t>
            </a:r>
            <a:r>
              <a:rPr b="0" lang="en-US" sz="1800" spc="-1" strike="noStrike">
                <a:solidFill>
                  <a:srgbClr val="ffc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(Orthostatic Intolerance/Autonomic Dysfunction, pg 107) 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     </a:t>
            </a:r>
            <a:r>
              <a:rPr b="0" i="1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...are frequently present based on the existing evidence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380880" indent="-380880" algn="ctr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When viewed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ogether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hese core findings distinguish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EID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from other fatiguing disorders WHEN present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he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majority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of the time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and of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moderate, substantial, or severe intensit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380880" indent="-380880" algn="ctr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Calibri"/>
                <a:ea typeface="Arial"/>
              </a:rPr>
              <a:t>Pain, immune impairment, infection symptoms support the diagnosis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HY WERE THESE CORE DIAGNOSTIC SEID CRITERIA CHOSEN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These manifestations of ME/CFS illness were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the most </a:t>
            </a:r>
            <a:r>
              <a:rPr b="1" lang="en-US" sz="2000" spc="-1" strike="noStrike">
                <a:solidFill>
                  <a:srgbClr val="ffc000"/>
                </a:solidFill>
                <a:latin typeface="Constantia"/>
              </a:rPr>
              <a:t>frequent</a:t>
            </a: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 (experienced by almost all) and most </a:t>
            </a:r>
            <a:r>
              <a:rPr b="1" lang="en-US" sz="2000" spc="-1" strike="noStrike">
                <a:solidFill>
                  <a:srgbClr val="ffc000"/>
                </a:solidFill>
                <a:latin typeface="Constantia"/>
              </a:rPr>
              <a:t>severe </a:t>
            </a: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(most disabling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best supported by the </a:t>
            </a:r>
            <a:r>
              <a:rPr b="1" lang="en-US" sz="2000" spc="-1" strike="noStrike">
                <a:solidFill>
                  <a:srgbClr val="ffcc00"/>
                </a:solidFill>
                <a:latin typeface="Constantia"/>
              </a:rPr>
              <a:t>evidenc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the more </a:t>
            </a:r>
            <a:r>
              <a:rPr b="1" lang="en-US" sz="2000" spc="-1" strike="noStrike">
                <a:solidFill>
                  <a:srgbClr val="ffc000"/>
                </a:solidFill>
                <a:latin typeface="Constantia"/>
              </a:rPr>
              <a:t>objectively measurabl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The report places emphasis on ME/CFS/SEID being </a:t>
            </a:r>
            <a:r>
              <a:rPr b="0" lang="en-US" sz="2000" spc="-1" strike="noStrike">
                <a:solidFill>
                  <a:srgbClr val="00ffff"/>
                </a:solidFill>
                <a:latin typeface="Constantia"/>
              </a:rPr>
              <a:t>"a diagnosis to be made"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---not simply what's left over after every other possible illness has been ruled out.  </a:t>
            </a:r>
            <a:r>
              <a:rPr b="0" i="1" lang="en-US" sz="2000" spc="-1" strike="noStrike">
                <a:solidFill>
                  <a:srgbClr val="ffffff"/>
                </a:solidFill>
                <a:latin typeface="Constanti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Constantia"/>
              </a:rPr>
              <a:t>The diagnosis of SEID </a:t>
            </a:r>
            <a:r>
              <a:rPr b="1" lang="en-US" sz="2000" spc="-1" strike="noStrike">
                <a:solidFill>
                  <a:srgbClr val="00ffff"/>
                </a:solidFill>
                <a:latin typeface="Constantia"/>
              </a:rPr>
              <a:t>can</a:t>
            </a:r>
            <a:r>
              <a:rPr b="0" lang="en-US" sz="2000" spc="-1" strike="noStrike">
                <a:solidFill>
                  <a:srgbClr val="00ffff"/>
                </a:solidFill>
                <a:latin typeface="Constantia"/>
              </a:rPr>
              <a:t> be established with  confidence from history, examination and testing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(i.e. it is not a diagnosis of exclusion).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S, OF COURSE, DOES NOT IMPLY THAT OTHER ILLNESSES SHOULD NOT BE EVALUATED AND TREATED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IOM Recommendation 1: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en-US" sz="2400" spc="-1" strike="noStrike">
                <a:solidFill>
                  <a:srgbClr val="ffcc00"/>
                </a:solidFill>
                <a:latin typeface="Constantia"/>
              </a:rPr>
              <a:t>“</a:t>
            </a:r>
            <a:r>
              <a:rPr b="1" lang="en-US" sz="2400" spc="-1" strike="noStrike">
                <a:solidFill>
                  <a:srgbClr val="ffc000"/>
                </a:solidFill>
                <a:latin typeface="Constantia"/>
              </a:rPr>
              <a:t>Physicians should diagnose  ME/CFS [SEID] if diagnostic criteria are met following an appropriate history, physical examination, and medical workup.”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nstantia"/>
              </a:rPr>
              <a:t>LBMD--- Thus, if another diagnosis, or combination of diagnoses, in the period of workup or “differential diagnosis”, completely explains the clinical presentation, then there may be no need to make a diagnosis of SEID.  This would require clinical judgment. Sometimes it takes a few months to clarify these issu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Picture 4" descr="C:\Users\Cindy\AppData\Local\Microsoft\Windows\Temporary Internet Files\Content.IE5\IOQV5051\kid-medical-Doctor[1].jpg"/>
          <p:cNvPicPr/>
          <p:nvPr/>
        </p:nvPicPr>
        <p:blipFill>
          <a:blip r:embed="rId1"/>
          <a:stretch/>
        </p:blipFill>
        <p:spPr>
          <a:xfrm>
            <a:off x="7696080" y="1859040"/>
            <a:ext cx="106704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HELPFUL DIAGNOSTIC TIPS ARE RECOMMENDED FOR THE HCP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Constantia"/>
              </a:rPr>
              <a:t>LISTEN</a:t>
            </a:r>
            <a:r>
              <a:rPr b="0" lang="en-US" sz="2400" spc="-1" strike="noStrike">
                <a:solidFill>
                  <a:srgbClr val="ffc000"/>
                </a:solidFill>
                <a:latin typeface="Constantia"/>
              </a:rPr>
              <a:t> to the patient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(pg 213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ake a careful and detailed histor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nstantia"/>
              </a:rPr>
              <a:t>Section D in the APPENDIX</a:t>
            </a: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Constantia"/>
              </a:rPr>
              <a:t>lists</a:t>
            </a: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i="1" lang="en-US" sz="1800" spc="-1" strike="noStrike">
                <a:solidFill>
                  <a:srgbClr val="ffc000"/>
                </a:solidFill>
                <a:latin typeface="Constantia"/>
              </a:rPr>
              <a:t>questionnaires and tools</a:t>
            </a:r>
            <a:r>
              <a:rPr b="0" i="1" lang="en-US" sz="1800" spc="-1" strike="noStrike">
                <a:solidFill>
                  <a:srgbClr val="ffc000"/>
                </a:solidFill>
                <a:latin typeface="Constantia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that are useful for making a diagnosis and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Constantia"/>
              </a:rPr>
              <a:t>provides </a:t>
            </a:r>
            <a:r>
              <a:rPr b="0" i="1" lang="en-US" sz="1800" spc="-1" strike="noStrike">
                <a:solidFill>
                  <a:srgbClr val="ffcc66"/>
                </a:solidFill>
                <a:latin typeface="Constantia"/>
              </a:rPr>
              <a:t>links to </a:t>
            </a:r>
            <a:r>
              <a:rPr b="1" i="1" lang="en-US" sz="1800" spc="-1" strike="noStrike">
                <a:solidFill>
                  <a:srgbClr val="ffcc66"/>
                </a:solidFill>
                <a:latin typeface="Constantia"/>
              </a:rPr>
              <a:t>online resources</a:t>
            </a:r>
            <a:r>
              <a:rPr b="0" i="1" lang="en-US" sz="1800" spc="-1" strike="noStrike">
                <a:solidFill>
                  <a:srgbClr val="ffc000"/>
                </a:solidFill>
                <a:latin typeface="Constantia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for the HCP  (pg 269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onstantia"/>
              </a:rPr>
              <a:t>Fatigue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onstantia"/>
              </a:rPr>
              <a:t>Function   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onstantia"/>
              </a:rPr>
              <a:t>PEM 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onstantia"/>
              </a:rPr>
              <a:t>Sleep problems 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onstantia"/>
              </a:rPr>
              <a:t>Cognitive symptoms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onstantia"/>
              </a:rPr>
              <a:t>Orthostatic intolerance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onstantia"/>
              </a:rPr>
              <a:t>Pain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2" name="Picture 6" descr="C:\Users\Cindy\AppData\Local\Microsoft\Windows\Temporary Internet Files\Content.IE5\RD9BHF63\online_information[1].jpg"/>
          <p:cNvPicPr/>
          <p:nvPr/>
        </p:nvPicPr>
        <p:blipFill>
          <a:blip r:embed="rId1"/>
          <a:stretch/>
        </p:blipFill>
        <p:spPr>
          <a:xfrm>
            <a:off x="4114800" y="3505320"/>
            <a:ext cx="251460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DETAILED DIAGNOSTIC DESCRIPTION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EACH SECTION OF THE REPOR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nstantia"/>
              </a:rPr>
              <a:t>Chapter 4 (the core criteria):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nstantia"/>
              </a:rPr>
              <a:t>Fatigue and Its Impact on Function, pg 73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nstantia"/>
              </a:rPr>
              <a:t>Post-Exertional Malaise (PEM), pg 78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nstantia"/>
              </a:rPr>
              <a:t>Sleep-Related Symptoms, pg 86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nstantia"/>
              </a:rPr>
              <a:t>Neurocognitive Manifestations, pg 96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nstantia"/>
              </a:rPr>
              <a:t>Orthostatic Intolerance and Autonomic Dysfunction, pg 107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nstantia"/>
              </a:rPr>
              <a:t>Chapter 5 (other manifestations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nstantia"/>
              </a:rPr>
              <a:t>Pain, pg 141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nstantia"/>
              </a:rPr>
              <a:t>Immune Impairment, pg 147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nstantia"/>
              </a:rPr>
              <a:t>Neuroendocrine Manifestations, pg 152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nstantia"/>
              </a:rPr>
              <a:t>Infection, pg 157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nstantia"/>
              </a:rPr>
              <a:t>Chapter 6  (all of the above in pediatric population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5" name="Picture 4" descr="C:\Users\Cindy\AppData\Local\Microsoft\Windows\Temporary Internet Files\Content.IE5\VI67O60H\20140814_pencildetail[1].jpg"/>
          <p:cNvPicPr/>
          <p:nvPr/>
        </p:nvPicPr>
        <p:blipFill>
          <a:blip r:embed="rId1"/>
          <a:stretch/>
        </p:blipFill>
        <p:spPr>
          <a:xfrm>
            <a:off x="6019920" y="4267080"/>
            <a:ext cx="281916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Calibri"/>
              </a:rPr>
              <a:t>FEDS URGED TO </a:t>
            </a:r>
            <a:br>
              <a:rPr sz="4000"/>
            </a:br>
            <a:r>
              <a:rPr b="0" lang="en-US" sz="4000" spc="-1" strike="noStrike">
                <a:solidFill>
                  <a:srgbClr val="ffc000"/>
                </a:solidFill>
                <a:latin typeface="Calibri"/>
              </a:rPr>
              <a:t>IMPROVE DIAGNOSTIC TOOL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IOM Recommendation 2: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The Department of Health and Human Services/DHHS should </a:t>
            </a:r>
            <a:r>
              <a:rPr b="0" lang="en-US" sz="2000" spc="-1" strike="noStrike">
                <a:solidFill>
                  <a:srgbClr val="ffc000"/>
                </a:solidFill>
                <a:latin typeface="Constantia"/>
              </a:rPr>
              <a:t>develop a toolkit </a:t>
            </a:r>
            <a:r>
              <a:rPr b="0" i="1" lang="en-US" sz="2000" spc="-1" strike="noStrike">
                <a:solidFill>
                  <a:srgbClr val="ffc000"/>
                </a:solidFill>
                <a:latin typeface="Constantia"/>
              </a:rPr>
              <a:t>[a group of standardized and validated tests]</a:t>
            </a:r>
            <a:r>
              <a:rPr b="0" lang="en-US" sz="2000" spc="-1" strike="noStrike">
                <a:solidFill>
                  <a:srgbClr val="ffc000"/>
                </a:solidFill>
                <a:latin typeface="Constantia"/>
              </a:rPr>
              <a:t> appropriate for screening and diagnosing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… ME/CFS [SEID] in a wide array of clinical settings </a:t>
            </a: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… including primary care practices, emergency departments, mental/behavioral health clinics, physical/occupational therapy units, and medical subspecialty services (e.g., rheumatology, infectious diseases, neurology).”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The development of clinical questionnaire or history tools that are valid across populations of patients and readily usable in the clinical environment </a:t>
            </a: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should be </a:t>
            </a:r>
            <a:r>
              <a:rPr b="1" lang="en-US" sz="2000" spc="-1" strike="noStrike">
                <a:solidFill>
                  <a:srgbClr val="ffc000"/>
                </a:solidFill>
                <a:latin typeface="Constantia"/>
              </a:rPr>
              <a:t>an urgent priority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8" name="Picture 9" descr="C:\Users\Cindy\AppData\Local\Microsoft\Windows\Temporary Internet Files\Content.IE5\VI67O60H\checklist[1].jpg"/>
          <p:cNvPicPr/>
          <p:nvPr/>
        </p:nvPicPr>
        <p:blipFill>
          <a:blip r:embed="rId1"/>
          <a:stretch/>
        </p:blipFill>
        <p:spPr>
          <a:xfrm>
            <a:off x="7391520" y="22860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Calibri"/>
              </a:rPr>
              <a:t>FUND</a:t>
            </a: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 AN </a:t>
            </a:r>
            <a:r>
              <a:rPr b="0" i="1" lang="en-US" sz="2800" spc="-1" strike="noStrike">
                <a:solidFill>
                  <a:srgbClr val="ffc000"/>
                </a:solidFill>
                <a:latin typeface="Calibri"/>
              </a:rPr>
              <a:t>UNBIASED</a:t>
            </a: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 REVISION OF SEID DIAGNOSTIC CRITERIA, SOON, IN ORDER TO CONSIDER EMERGING SCIENTIFIC EVIDENCE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IOM Recommendation 3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    “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A multidisciplinary group should reexamine the diagnostic criteria… when firm evidence supports modification to improve the identification or care of affected individuals.  Such a group should consider,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in no more than 5 years [i.e. within less than 5 years],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whether modification of the criteria is necessary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Funding for this update effort should be provided by nonconflicted sources, such as the Agency for Healthcare Research and Quality, through its Evidence-based Practice Centers process, and foundations.”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PPENDIX C: DISABILITY IN ME/CFS/SEI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The disability discussion highlights the *</a:t>
            </a: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SSA evaluation for disability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recommendations</a:t>
            </a: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(pg 258-59)</a:t>
            </a: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that describe </a:t>
            </a:r>
            <a:r>
              <a:rPr b="0" lang="en-US" sz="2000" spc="-1" strike="noStrike">
                <a:solidFill>
                  <a:srgbClr val="ffc000"/>
                </a:solidFill>
                <a:latin typeface="Constantia"/>
              </a:rPr>
              <a:t>how HCPs can document diagnostic findings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in the medical record: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Constantia"/>
              </a:rPr>
              <a:t>physical exam </a:t>
            </a: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findings (tender nodes, red throat, tender muscles or tender points, poor balance, pallor/pale, dramatic weight changes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certain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onstantia"/>
              </a:rPr>
              <a:t>supportive labs </a:t>
            </a: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such as abnormal EBV antibody titers (very high EBV VCA IgG or early antigen), positive ANA, etc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abnormal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onstantia"/>
              </a:rPr>
              <a:t>brain MRI</a:t>
            </a: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 scan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objective documentation of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onstantia"/>
              </a:rPr>
              <a:t>orthostatic intolerance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abnormal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onstantia"/>
              </a:rPr>
              <a:t>exercise stress testing </a:t>
            </a:r>
            <a:r>
              <a:rPr b="0" i="1" lang="en-US" sz="1600" spc="-1" strike="noStrike">
                <a:solidFill>
                  <a:srgbClr val="ffffff"/>
                </a:solidFill>
                <a:latin typeface="Constantia"/>
              </a:rPr>
              <a:t>[including cardiopulmonary exercise testing]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abnormal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onstantia"/>
              </a:rPr>
              <a:t>sleep studies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*</a:t>
            </a:r>
            <a:r>
              <a:rPr b="1" lang="en-US" sz="2000" spc="-1" strike="noStrike">
                <a:solidFill>
                  <a:srgbClr val="ffc000"/>
                </a:solidFill>
                <a:latin typeface="Constantia"/>
              </a:rPr>
              <a:t>SSR 14-1p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: </a:t>
            </a: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Titles II and XVI: Evaluating Cases Involving Chronic Fatigue Syndrome (CFS) Effective Date: April 3, 2014.  Federal Register Vol. 79, No. 64, page 18752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3" name="Picture 4" descr="C:\Users\Cindy\AppData\Local\Microsoft\Windows\Temporary Internet Files\Content.IE5\C1ELRH1Z\invisible_disability_stickers-r449f8209b2e24f9e99cbbfda6d03ece2_v9i40_8byvr_324[1].jpg"/>
          <p:cNvPicPr/>
          <p:nvPr/>
        </p:nvPicPr>
        <p:blipFill>
          <a:blip r:embed="rId1"/>
          <a:stretch/>
        </p:blipFill>
        <p:spPr>
          <a:xfrm>
            <a:off x="7772400" y="228600"/>
            <a:ext cx="116208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9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89d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96009"/>
                </a:solidFill>
                <a:latin typeface="Calibri"/>
              </a:rPr>
              <a:t>ABOUT OUR WEBINAR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30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7033"/>
                </a:solidFill>
                <a:latin typeface="Calibri"/>
              </a:rPr>
              <a:t>Welcome to the 2015 webinar series!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7033"/>
                </a:solidFill>
                <a:latin typeface="Calibri"/>
              </a:rPr>
              <a:t>The audience is muted, use the question box to send me question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7033"/>
                </a:solidFill>
                <a:latin typeface="Calibri"/>
              </a:rPr>
              <a:t>Webinars are recorded and the recording is made available on our YouTube channel and websit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7033"/>
                </a:solidFill>
                <a:latin typeface="Calibri"/>
              </a:rPr>
              <a:t>SMCI is a research organization and does not provide medical advic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2" name="Picture 3" descr="CFIDS_Mark.jpg"/>
          <p:cNvPicPr/>
          <p:nvPr/>
        </p:nvPicPr>
        <p:blipFill>
          <a:blip r:embed="rId1"/>
          <a:srcRect l="0" t="0" r="9787" b="0"/>
          <a:stretch/>
        </p:blipFill>
        <p:spPr>
          <a:xfrm>
            <a:off x="0" y="6262560"/>
            <a:ext cx="68580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WIDE DISSEMINATION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ILL IMPROVE USE OF THE DIAGNOSTIC CRITERIA AND IMPROVE DIAGNOSI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4674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The IOM Report was broadly publicized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Top media outlets covered the report:  (&gt;500 articles 10/2/15)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66"/>
                </a:solidFill>
                <a:latin typeface="Constantia"/>
              </a:rPr>
              <a:t>JAMA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66"/>
                </a:solidFill>
                <a:latin typeface="Constantia"/>
              </a:rPr>
              <a:t>Annals of Internal Medicine</a:t>
            </a:r>
            <a:r>
              <a:rPr b="1" i="1" lang="en-US" sz="1400" spc="-1" strike="noStrike">
                <a:solidFill>
                  <a:srgbClr val="ff9933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onstantia"/>
              </a:rPr>
              <a:t>New York Times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onstantia"/>
              </a:rPr>
              <a:t>Washington Post.com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onstantia"/>
              </a:rPr>
              <a:t>NBC Nightly News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onstantia"/>
              </a:rPr>
              <a:t>Time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onstantia"/>
              </a:rPr>
              <a:t>Dr. Oz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onstantia"/>
              </a:rPr>
              <a:t>The New Yorker Magazine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The total unique visitors for more than </a:t>
            </a:r>
            <a:r>
              <a:rPr b="1" lang="en-US" sz="2400" spc="-1" strike="noStrike">
                <a:solidFill>
                  <a:srgbClr val="ff9900"/>
                </a:solidFill>
                <a:latin typeface="Constantia"/>
              </a:rPr>
              <a:t>720 </a:t>
            </a:r>
            <a:r>
              <a:rPr b="0" lang="en-US" sz="2400" spc="-1" strike="noStrike">
                <a:solidFill>
                  <a:srgbClr val="ff9900"/>
                </a:solidFill>
                <a:latin typeface="Constantia"/>
              </a:rPr>
              <a:t>online articles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Constantia"/>
              </a:rPr>
              <a:t>910,516,045</a:t>
            </a:r>
            <a:r>
              <a:rPr b="0" lang="en-US" sz="2400" spc="-1" strike="noStrike">
                <a:solidFill>
                  <a:srgbClr val="00ffff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WIDE DISSEMINATION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ILL IMPROVE USE OF THE DIAGNOSTIC CRITERIA AND IMPROVE DIAGNOSI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000"/>
                </a:solidFill>
                <a:uFillTx/>
                <a:latin typeface="Constantia"/>
              </a:rPr>
              <a:t>Dissemination strategy </a:t>
            </a: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(Chapter 8, pg 231-246)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Constantia"/>
              </a:rPr>
              <a:t>DHHS agencies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should coordinate and all use the new diagnostic criteria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332640" indent="-332640">
              <a:lnSpc>
                <a:spcPct val="70000"/>
              </a:lnSpc>
              <a:spcBef>
                <a:spcPts val="349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Constantia"/>
              </a:rPr>
              <a:t>HCP: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Target not only all Primary Care Providers, </a:t>
            </a:r>
            <a:r>
              <a:rPr b="0" lang="en-US" sz="1400" spc="-1" strike="noStrike">
                <a:solidFill>
                  <a:srgbClr val="ffffff"/>
                </a:solidFill>
                <a:latin typeface="Constantia"/>
              </a:rPr>
              <a:t>but also OB/GYN, ER, psychologists, psychiatrists, neurologists, rheumatologists, gastroenterologists, sports medicine, sleep medicine, cardiologists, physical therapists, occupational therapists, chiropractors, osteopathic practitioners and fitness instructors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In addition to Health Care Providers (HCP) information should go to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1" marL="720720" indent="-277200">
              <a:lnSpc>
                <a:spcPct val="70000"/>
              </a:lnSpc>
              <a:spcBef>
                <a:spcPts val="300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Constantia"/>
              </a:rPr>
              <a:t>School-based professionals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lvl="1" marL="720720" indent="-277200">
              <a:lnSpc>
                <a:spcPct val="70000"/>
              </a:lnSpc>
              <a:spcBef>
                <a:spcPts val="300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Constantia"/>
              </a:rPr>
              <a:t>Professional Societies  (AMA, general and specialty societies)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lvl="1" marL="720720" indent="-277200">
              <a:lnSpc>
                <a:spcPct val="70000"/>
              </a:lnSpc>
              <a:spcBef>
                <a:spcPts val="300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Constantia"/>
              </a:rPr>
              <a:t>Medical Education events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lvl="1" marL="720720" indent="-277200">
              <a:lnSpc>
                <a:spcPct val="70000"/>
              </a:lnSpc>
              <a:spcBef>
                <a:spcPts val="300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Constantia"/>
              </a:rPr>
              <a:t>Online (web) education outreach-- WebMD, Medscape, etc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lvl="1" marL="720720" indent="-277200">
              <a:lnSpc>
                <a:spcPct val="70000"/>
              </a:lnSpc>
              <a:spcBef>
                <a:spcPts val="300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Constantia"/>
              </a:rPr>
              <a:t>Training (Medical Students, Residents, Fellows) and Examination Organizations (Medical Board Exams, etc)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lvl="1" marL="720720" indent="-277200">
              <a:lnSpc>
                <a:spcPct val="70000"/>
              </a:lnSpc>
              <a:spcBef>
                <a:spcPts val="300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Constantia"/>
              </a:rPr>
              <a:t>Licensing and Certification organizations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lvl="1" marL="720720" indent="-277200">
              <a:lnSpc>
                <a:spcPct val="70000"/>
              </a:lnSpc>
              <a:spcBef>
                <a:spcPts val="300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Constantia"/>
              </a:rPr>
              <a:t>Large Health Care Systems, Medical Groups, Managed Care organizations, Insurance providers, etc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lvl="1" marL="720720" indent="-277200">
              <a:lnSpc>
                <a:spcPct val="70000"/>
              </a:lnSpc>
              <a:spcBef>
                <a:spcPts val="300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Constantia"/>
              </a:rPr>
              <a:t>Media and Social Media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8" name="Picture 6" descr="C:\Users\Cindy\AppData\Local\Microsoft\Windows\Temporary Internet Files\Content.IE5\C1ELRH1Z\happy-bird-with-spread-open-wings-16380-medium[1].png"/>
          <p:cNvPicPr/>
          <p:nvPr/>
        </p:nvPicPr>
        <p:blipFill>
          <a:blip r:embed="rId1"/>
          <a:stretch/>
        </p:blipFill>
        <p:spPr>
          <a:xfrm>
            <a:off x="228600" y="5562720"/>
            <a:ext cx="99072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ILL THE SEID DIAGNOSTIC CRITERIA IMPROVE DIAGNOSI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he major purpose of the IOM report is to improve clinical diagnosis.  </a:t>
            </a:r>
            <a:r>
              <a:rPr b="0" lang="en-US" sz="2400" spc="-1" strike="noStrike">
                <a:solidFill>
                  <a:srgbClr val="ffc000"/>
                </a:solidFill>
                <a:latin typeface="Constantia"/>
              </a:rPr>
              <a:t>It will succeed if supported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onstantia"/>
              </a:rPr>
              <a:t>A new name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an help overcome old stereotypes (or just “save face” and make a fresh start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he name describes the practical consequences of the illness.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The fact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hat SEID impacts the entire body across many systems </a:t>
            </a:r>
            <a:r>
              <a:rPr b="0" lang="en-US" sz="2400" spc="-1" strike="noStrike">
                <a:solidFill>
                  <a:srgbClr val="00ffff"/>
                </a:solidFill>
                <a:latin typeface="Constantia"/>
              </a:rPr>
              <a:t>(Systemic)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and has the somewhat unique feature of PEM </a:t>
            </a:r>
            <a:r>
              <a:rPr b="0" lang="en-US" sz="2400" spc="-1" strike="noStrike">
                <a:solidFill>
                  <a:srgbClr val="00ffff"/>
                </a:solidFill>
                <a:latin typeface="Constantia"/>
              </a:rPr>
              <a:t>(Exertion Intolerance)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,</a:t>
            </a:r>
            <a:r>
              <a:rPr b="0" lang="en-US" sz="2400" spc="-1" strike="noStrike">
                <a:solidFill>
                  <a:srgbClr val="00ff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and results in reduced functional capacity (the first listed criterion)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can no longer be ignored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when </a:t>
            </a:r>
            <a:r>
              <a:rPr b="0" lang="en-US" sz="2400" spc="-1" strike="noStrike">
                <a:solidFill>
                  <a:srgbClr val="ffcc00"/>
                </a:solidFill>
                <a:latin typeface="Constantia"/>
              </a:rPr>
              <a:t>the</a:t>
            </a:r>
            <a:r>
              <a:rPr b="0" lang="en-US" sz="2400" spc="-1" strike="noStrike">
                <a:solidFill>
                  <a:srgbClr val="ffc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Constantia"/>
              </a:rPr>
              <a:t>Disease</a:t>
            </a:r>
            <a:r>
              <a:rPr b="0" lang="en-US" sz="2400" spc="-1" strike="noStrike">
                <a:solidFill>
                  <a:srgbClr val="ffc000"/>
                </a:solidFill>
                <a:latin typeface="Constantia"/>
              </a:rPr>
              <a:t> is described each time the name is spoken or written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HOW WILL THE SEID DIAGNOSTIC CRITERIA IMPROV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TREATMENT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09480" y="2209680"/>
            <a:ext cx="7925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In my opinion treatment will improve because of--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Constantia"/>
              </a:rPr>
              <a:t>Increased diagnosis (and awareness)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Constantia"/>
              </a:rPr>
              <a:t>Calling attention to the major disabling symptom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Constantia"/>
              </a:rPr>
              <a:t>Validating the major symptoms as real and debilitating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Many treatable aspects of the illness have been overlooked, or treatments have been avoided, by healthcare providers.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Constantia"/>
              </a:rPr>
              <a:t> </a:t>
            </a:r>
            <a:r>
              <a:rPr b="0" i="1" lang="en-US" sz="2000" spc="-1" strike="noStrike">
                <a:solidFill>
                  <a:srgbClr val="00ffff"/>
                </a:solidFill>
                <a:latin typeface="Constantia"/>
              </a:rPr>
              <a:t>PCPs don’t know they already know more than they think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</a:t>
            </a:r>
            <a:r>
              <a:rPr b="0" i="1" lang="en-US" sz="2000" spc="-1" strike="noStrike">
                <a:solidFill>
                  <a:srgbClr val="ffffff"/>
                </a:solidFill>
                <a:latin typeface="Constantia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nstantia"/>
              </a:rPr>
              <a:t>We have tools we can use until research advanc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onstantia"/>
              </a:rPr>
              <a:t>PEM: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upport for pacing and PEM-reduction or prevention strategies. Pacing or preventing PEM improves/reduces many SEID symptoms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onstantia"/>
              </a:rPr>
              <a:t>Sleep disturbances: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Many ways to help, though not often the </a:t>
            </a: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unrefreshing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aspect of sleep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onstantia"/>
              </a:rPr>
              <a:t>Orthostatic intolerance: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POTS. Orthostatic hypotension. Fainting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onstantia"/>
              </a:rPr>
              <a:t>Cognitive impairment: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Even recognition and patience would be helpful, along with treatment support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Pain: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growing FM literature, clinical awareness and tools for management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OW WILL THE SEID DIAGNOSTIC CRITERIA IMPROVE TREATMENT?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HOW WILL THE SEID DIAGNOSTIC CRITERIA IMPROVE TREATMENT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09480" y="18288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May help put </a:t>
            </a:r>
            <a:r>
              <a:rPr b="0" lang="en-US" sz="2000" spc="-1" strike="noStrike">
                <a:solidFill>
                  <a:srgbClr val="ffc000"/>
                </a:solidFill>
                <a:latin typeface="Constantia"/>
              </a:rPr>
              <a:t>mental health support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in the proper perspective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Validation of  illness will/may improve how patients are 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Constantia"/>
              </a:rPr>
              <a:t>treated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by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nstantia"/>
              </a:rPr>
              <a:t>Workplace or employer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nstantia"/>
              </a:rPr>
              <a:t>School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nstantia"/>
              </a:rPr>
              <a:t>Health Insurance and medication coverag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nstantia"/>
              </a:rPr>
              <a:t>Disability determination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Constantia"/>
              </a:rPr>
              <a:t>FDA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and </a:t>
            </a:r>
            <a:r>
              <a:rPr b="0" lang="en-US" sz="2000" spc="-1" strike="noStrike">
                <a:solidFill>
                  <a:srgbClr val="ffc000"/>
                </a:solidFill>
                <a:latin typeface="Constantia"/>
              </a:rPr>
              <a:t>pharmaceutical companies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will move forward with drug development and drug approval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7" name="Picture 4" descr="C:\Users\Cindy\AppData\Local\Microsoft\Windows\Temporary Internet Files\Content.IE5\IOQV5051\fda-approved[1].jpg"/>
          <p:cNvPicPr/>
          <p:nvPr/>
        </p:nvPicPr>
        <p:blipFill>
          <a:blip r:embed="rId1"/>
          <a:stretch/>
        </p:blipFill>
        <p:spPr>
          <a:xfrm>
            <a:off x="7238880" y="4724280"/>
            <a:ext cx="1289160" cy="9669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Cindy\AppData\Local\Microsoft\Windows\Temporary Internet Files\Content.IE5\VI67O60H\1[1].jpg"/>
          <p:cNvPicPr/>
          <p:nvPr/>
        </p:nvPicPr>
        <p:blipFill>
          <a:blip r:embed="rId2"/>
          <a:stretch/>
        </p:blipFill>
        <p:spPr>
          <a:xfrm>
            <a:off x="5257800" y="4724280"/>
            <a:ext cx="1827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HOW WILL THE SEID DIAGNOSTIC CRITERIA IMPROVE TREATMENT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More diagnosed patients will create many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more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c000"/>
                </a:solidFill>
                <a:latin typeface="Constantia"/>
              </a:rPr>
              <a:t>potential research participants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. This will improve futu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diagnostic criteria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, identification of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biomarkers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and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subgroups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,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development of treatments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onstantia"/>
              </a:rPr>
              <a:t>Difficulty defining the illness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, measuring outcomes, and recruiting patients has hampered interest in and funding of research, especially research regarding treatment.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29040" indent="-32904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ffc000"/>
                </a:solidFill>
                <a:latin typeface="Constantia"/>
              </a:rPr>
              <a:t>This should improve!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1" name="Picture 4" descr="C:\Users\Cindy\AppData\Local\Microsoft\Windows\Temporary Internet Files\Content.IE5\RD9BHF63\paperpeople-01[1].jpg"/>
          <p:cNvPicPr/>
          <p:nvPr/>
        </p:nvPicPr>
        <p:blipFill>
          <a:blip r:embed="rId1"/>
          <a:stretch/>
        </p:blipFill>
        <p:spPr>
          <a:xfrm>
            <a:off x="5257800" y="2895480"/>
            <a:ext cx="213372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887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ILL SEID DIAGNOSTIC CRITERIA IMPROVE DIAGNOSIS AND TREATMENT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838080" y="3212640"/>
            <a:ext cx="1905120" cy="12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nstantia"/>
              </a:rPr>
              <a:t>Yes!</a:t>
            </a:r>
            <a:endParaRPr b="0" lang="en-US" sz="8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4" name="Picture 10" descr="C:\Users\Cindy\AppData\Local\Microsoft\Windows\Temporary Internet Files\Content.IE5\C1ELRH1Z\Caduceus-Line-Art-Outline-4668-medium[1].png"/>
          <p:cNvPicPr/>
          <p:nvPr/>
        </p:nvPicPr>
        <p:blipFill>
          <a:blip r:embed="rId1"/>
          <a:stretch/>
        </p:blipFill>
        <p:spPr>
          <a:xfrm>
            <a:off x="4392720" y="3213000"/>
            <a:ext cx="358560" cy="432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C:\Users\Cindy\AppData\Local\Microsoft\Windows\Temporary Internet Files\Content.IE5\VI67O60H\success[1].png"/>
          <p:cNvPicPr/>
          <p:nvPr/>
        </p:nvPicPr>
        <p:blipFill>
          <a:blip r:embed="rId2"/>
          <a:stretch/>
        </p:blipFill>
        <p:spPr>
          <a:xfrm>
            <a:off x="2928960" y="2362320"/>
            <a:ext cx="3490920" cy="3371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7" descr="C:\Users\Cindy\AppData\Local\Microsoft\Windows\Temporary Internet Files\Content.IE5\C1ELRH1Z\yes_thumb[1].png"/>
          <p:cNvPicPr/>
          <p:nvPr/>
        </p:nvPicPr>
        <p:blipFill>
          <a:blip r:embed="rId3"/>
          <a:stretch/>
        </p:blipFill>
        <p:spPr>
          <a:xfrm>
            <a:off x="2122560" y="1919160"/>
            <a:ext cx="1612800" cy="10112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1" descr="C:\Users\Cindy\AppData\Local\Microsoft\Windows\Temporary Internet Files\Content.IE5\C1ELRH1Z\yes[1].jpg"/>
          <p:cNvPicPr/>
          <p:nvPr/>
        </p:nvPicPr>
        <p:blipFill>
          <a:blip r:embed="rId4"/>
          <a:stretch/>
        </p:blipFill>
        <p:spPr>
          <a:xfrm>
            <a:off x="7010280" y="4572000"/>
            <a:ext cx="1468440" cy="1468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3" descr="C:\Users\Cindy\AppData\Local\Microsoft\Windows\Temporary Internet Files\Content.IE5\IOQV5051\Yes[1].jpg"/>
          <p:cNvPicPr/>
          <p:nvPr/>
        </p:nvPicPr>
        <p:blipFill>
          <a:blip r:embed="rId5"/>
          <a:stretch/>
        </p:blipFill>
        <p:spPr>
          <a:xfrm>
            <a:off x="6172200" y="3657600"/>
            <a:ext cx="1752480" cy="1179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4" descr="C:\Users\Cindy\AppData\Local\Microsoft\Windows\Temporary Internet Files\Content.IE5\RD9BHF63\yes[1].jpg"/>
          <p:cNvPicPr/>
          <p:nvPr/>
        </p:nvPicPr>
        <p:blipFill>
          <a:blip r:embed="rId6"/>
          <a:stretch/>
        </p:blipFill>
        <p:spPr>
          <a:xfrm>
            <a:off x="1523880" y="4479840"/>
            <a:ext cx="1855800" cy="1082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5" descr="C:\Users\Cindy\AppData\Local\Microsoft\Windows\Temporary Internet Files\Content.IE5\RD9BHF63\main-ok[1].png"/>
          <p:cNvPicPr/>
          <p:nvPr/>
        </p:nvPicPr>
        <p:blipFill>
          <a:blip r:embed="rId7"/>
          <a:stretch/>
        </p:blipFill>
        <p:spPr>
          <a:xfrm>
            <a:off x="5791320" y="2133720"/>
            <a:ext cx="1395360" cy="14983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6" descr="C:\Users\Cindy\AppData\Local\Microsoft\Windows\Temporary Internet Files\Content.IE5\RD9BHF63\yes[2].jpg"/>
          <p:cNvPicPr/>
          <p:nvPr/>
        </p:nvPicPr>
        <p:blipFill>
          <a:blip r:embed="rId8"/>
          <a:stretch/>
        </p:blipFill>
        <p:spPr>
          <a:xfrm>
            <a:off x="7527960" y="1903320"/>
            <a:ext cx="1308240" cy="15098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8" descr="C:\Users\Cindy\AppData\Local\Microsoft\Windows\Temporary Internet Files\Content.IE5\IOQV5051\large-Check-Mark-Sign-66.6-4261[1].gif"/>
          <p:cNvPicPr/>
          <p:nvPr/>
        </p:nvPicPr>
        <p:blipFill>
          <a:blip r:embed="rId9"/>
          <a:stretch/>
        </p:blipFill>
        <p:spPr>
          <a:xfrm>
            <a:off x="398520" y="5035680"/>
            <a:ext cx="1474560" cy="14414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9" descr="C:\Users\Cindy\AppData\Local\Microsoft\Windows\Temporary Internet Files\Content.IE5\C1ELRH1Z\yes[2].jpg"/>
          <p:cNvPicPr/>
          <p:nvPr/>
        </p:nvPicPr>
        <p:blipFill>
          <a:blip r:embed="rId10"/>
          <a:stretch/>
        </p:blipFill>
        <p:spPr>
          <a:xfrm>
            <a:off x="631800" y="2155680"/>
            <a:ext cx="1513080" cy="11350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0" descr="C:\Users\Cindy\AppData\Local\Microsoft\Windows\Temporary Internet Files\Content.IE5\C1ELRH1Z\yes_logo[1].png"/>
          <p:cNvPicPr/>
          <p:nvPr/>
        </p:nvPicPr>
        <p:blipFill>
          <a:blip r:embed="rId11"/>
          <a:stretch/>
        </p:blipFill>
        <p:spPr>
          <a:xfrm>
            <a:off x="4102200" y="4876920"/>
            <a:ext cx="939600" cy="5871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2" descr="C:\Users\Cindy\AppData\Local\Microsoft\Windows\Temporary Internet Files\Content.IE5\VI67O60H\258322-two-dice-one-red-and-one-black-landed-on-double-six[1].jpg"/>
          <p:cNvPicPr/>
          <p:nvPr/>
        </p:nvPicPr>
        <p:blipFill>
          <a:blip r:embed="rId12"/>
          <a:stretch/>
        </p:blipFill>
        <p:spPr>
          <a:xfrm>
            <a:off x="1873080" y="5351400"/>
            <a:ext cx="1155960" cy="7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3" descr="CFIDS_Mark.jpg"/>
          <p:cNvPicPr/>
          <p:nvPr/>
        </p:nvPicPr>
        <p:blipFill>
          <a:blip r:embed="rId1"/>
          <a:srcRect l="0" t="0" r="9787" b="0"/>
          <a:stretch/>
        </p:blipFill>
        <p:spPr>
          <a:xfrm>
            <a:off x="-76320" y="5665680"/>
            <a:ext cx="1371600" cy="119232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52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89d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16324"/>
                </a:solidFill>
                <a:latin typeface="Calibri"/>
              </a:rPr>
              <a:t>BE AT THE CENTER OF THE SOLUTIO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1523520"/>
            <a:ext cx="8547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7033"/>
                </a:solidFill>
                <a:latin typeface="Calibri"/>
              </a:rPr>
              <a:t>Register for additional webinars: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16324"/>
                </a:solidFill>
                <a:latin typeface="Calibri"/>
              </a:rPr>
              <a:t>	</a:t>
            </a:r>
            <a:r>
              <a:rPr b="0" lang="en-US" sz="2000" spc="-1" strike="noStrike" u="sng">
                <a:solidFill>
                  <a:srgbClr val="f16324"/>
                </a:solidFill>
                <a:uFillTx/>
                <a:latin typeface="Calibri"/>
              </a:rPr>
              <a:t>SolveCFS.org/smci-2015-webinar-series/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16324"/>
                </a:solidFill>
                <a:latin typeface="Calibri"/>
              </a:rPr>
              <a:t> </a:t>
            </a:r>
            <a:r>
              <a:rPr b="0" lang="en-US" sz="2800" spc="-1" strike="noStrike">
                <a:solidFill>
                  <a:srgbClr val="507033"/>
                </a:solidFill>
                <a:latin typeface="Calibri"/>
              </a:rPr>
              <a:t>Sign up for our Research1</a:t>
            </a:r>
            <a:r>
              <a:rPr b="0" lang="en-US" sz="2800" spc="-1" strike="noStrike" baseline="30000">
                <a:solidFill>
                  <a:srgbClr val="507033"/>
                </a:solidFill>
                <a:latin typeface="Calibri"/>
              </a:rPr>
              <a:t>st</a:t>
            </a:r>
            <a:r>
              <a:rPr b="0" lang="en-US" sz="2800" spc="-1" strike="noStrike">
                <a:solidFill>
                  <a:srgbClr val="507033"/>
                </a:solidFill>
                <a:latin typeface="Calibri"/>
              </a:rPr>
              <a:t> e-newsletter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7033"/>
                </a:solidFill>
                <a:latin typeface="Calibri"/>
              </a:rPr>
              <a:t>Like us on </a:t>
            </a:r>
            <a:r>
              <a:rPr b="0" lang="en-US" sz="2800" spc="-1" strike="noStrike" u="sng">
                <a:solidFill>
                  <a:srgbClr val="f16324"/>
                </a:solidFill>
                <a:uFillTx/>
                <a:latin typeface="Calibri"/>
              </a:rPr>
              <a:t>Facebook.com/CFIDSAss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7033"/>
                </a:solidFill>
                <a:latin typeface="Calibri"/>
              </a:rPr>
              <a:t>Join the BioBank! Email </a:t>
            </a:r>
            <a:r>
              <a:rPr b="0" lang="en-US" sz="2800" spc="-1" strike="noStrike" u="sng">
                <a:solidFill>
                  <a:srgbClr val="f16324"/>
                </a:solidFill>
                <a:uFillTx/>
                <a:latin typeface="Calibri"/>
              </a:rPr>
              <a:t>BioBank@SolveCFS.org</a:t>
            </a:r>
            <a:br>
              <a:rPr sz="2800"/>
            </a:br>
            <a:r>
              <a:rPr b="0" lang="en-US" sz="2800" spc="-1" strike="noStrike">
                <a:solidFill>
                  <a:srgbClr val="f16324"/>
                </a:solidFill>
                <a:latin typeface="Calibri"/>
              </a:rPr>
              <a:t>	</a:t>
            </a:r>
            <a:r>
              <a:rPr b="0" lang="en-US" sz="1800" spc="-1" strike="noStrike" u="sng">
                <a:solidFill>
                  <a:srgbClr val="f16324"/>
                </a:solidFill>
                <a:uFillTx/>
                <a:latin typeface="Calibri"/>
              </a:rPr>
              <a:t>SolveCFS.org/solvecfs-biobank/eligibility/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7033"/>
                </a:solidFill>
                <a:latin typeface="Calibri"/>
              </a:rPr>
              <a:t>Drive research and fuel progress by donating!            </a:t>
            </a:r>
            <a:r>
              <a:rPr b="0" lang="en-US" sz="2800" spc="-1" strike="noStrike">
                <a:solidFill>
                  <a:srgbClr val="507033"/>
                </a:solidFill>
                <a:latin typeface="Calibri"/>
              </a:rPr>
              <a:t>	</a:t>
            </a:r>
            <a:r>
              <a:rPr b="0" lang="en-US" sz="2400" spc="-1" strike="noStrike" u="sng">
                <a:solidFill>
                  <a:srgbClr val="f16324"/>
                </a:solidFill>
                <a:uFillTx/>
                <a:latin typeface="Calibri"/>
              </a:rPr>
              <a:t>SolveCFS.org/donate/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52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89d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CFSME_logomain.tif"/>
          <p:cNvPicPr/>
          <p:nvPr/>
        </p:nvPicPr>
        <p:blipFill>
          <a:blip r:embed="rId1"/>
          <a:stretch/>
        </p:blipFill>
        <p:spPr>
          <a:xfrm>
            <a:off x="533520" y="492120"/>
            <a:ext cx="8076960" cy="1565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4"/>
          <p:cNvSpPr/>
          <p:nvPr/>
        </p:nvSpPr>
        <p:spPr>
          <a:xfrm>
            <a:off x="380880" y="2057400"/>
            <a:ext cx="8382240" cy="38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16324"/>
                </a:solidFill>
                <a:latin typeface="Arial Narrow"/>
                <a:ea typeface="Arial Narrow"/>
              </a:rPr>
              <a:t>Thank You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114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16324"/>
                </a:solidFill>
                <a:latin typeface="Arial Narrow"/>
                <a:ea typeface="Arial Narrow"/>
              </a:rPr>
              <a:t>Our Miss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7033"/>
                </a:solidFill>
                <a:latin typeface="Arial Narrow"/>
                <a:ea typeface="Arial Narrow"/>
              </a:rPr>
              <a:t>Make ME/CFS understood, diagnosable and treat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16324"/>
                </a:solidFill>
                <a:latin typeface="Arial Narrow"/>
                <a:ea typeface="Arial Narrow"/>
              </a:rPr>
              <a:t>Our Strateg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6228"/>
                </a:solidFill>
                <a:latin typeface="Arial Narrow"/>
                <a:ea typeface="Arial Narrow"/>
              </a:rPr>
              <a:t>Stimulate participatory research aimed at the early detection, objective diagnosis and effective treatment of ME/CFS through expanded public, private and commercial inves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9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89d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itle 1"/>
          <p:cNvSpPr/>
          <p:nvPr/>
        </p:nvSpPr>
        <p:spPr>
          <a:xfrm>
            <a:off x="7920" y="2776680"/>
            <a:ext cx="914400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6324"/>
                </a:solidFill>
                <a:latin typeface="Calibri"/>
                <a:ea typeface="Arial"/>
              </a:rPr>
              <a:t>Will SEID Diagnostic Criteria Improve</a:t>
            </a:r>
            <a:br>
              <a:rPr sz="3600"/>
            </a:br>
            <a:r>
              <a:rPr b="1" lang="en-US" sz="3600" spc="-1" strike="noStrike">
                <a:solidFill>
                  <a:srgbClr val="f16324"/>
                </a:solidFill>
                <a:latin typeface="Calibri"/>
                <a:ea typeface="Arial"/>
              </a:rPr>
              <a:t>Diagnosis and Treatmen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8" descr="CFSME_logomain.jpg"/>
          <p:cNvPicPr/>
          <p:nvPr/>
        </p:nvPicPr>
        <p:blipFill>
          <a:blip r:embed="rId1"/>
          <a:srcRect l="4063" t="15699" r="0" b="0"/>
          <a:stretch/>
        </p:blipFill>
        <p:spPr>
          <a:xfrm>
            <a:off x="1141560" y="419040"/>
            <a:ext cx="7116480" cy="1873440"/>
          </a:xfrm>
          <a:prstGeom prst="rect">
            <a:avLst/>
          </a:prstGeom>
          <a:ln w="0">
            <a:noFill/>
          </a:ln>
        </p:spPr>
      </p:pic>
      <p:sp>
        <p:nvSpPr>
          <p:cNvPr id="146" name="Subtitle 2"/>
          <p:cNvSpPr/>
          <p:nvPr/>
        </p:nvSpPr>
        <p:spPr>
          <a:xfrm>
            <a:off x="39600" y="2100240"/>
            <a:ext cx="91440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3340"/>
                </a:solidFill>
                <a:latin typeface="Calibri"/>
                <a:ea typeface="Arial"/>
              </a:rPr>
              <a:t>2015 Webinar Series </a:t>
            </a:r>
            <a:r>
              <a:rPr b="0" lang="en-US" sz="2400" spc="-1" strike="noStrike">
                <a:solidFill>
                  <a:srgbClr val="313340"/>
                </a:solidFill>
                <a:latin typeface="Calibri"/>
                <a:ea typeface="Arial"/>
              </a:rPr>
              <a:t>|</a:t>
            </a:r>
            <a:r>
              <a:rPr b="1" lang="en-US" sz="2400" spc="-1" strike="noStrike">
                <a:solidFill>
                  <a:srgbClr val="31334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313340"/>
                </a:solidFill>
                <a:latin typeface="Calibri"/>
                <a:ea typeface="Arial"/>
              </a:rPr>
              <a:t>Friday, April 17, 2015 | 1:00 PM Easte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30"/>
          <p:cNvSpPr/>
          <p:nvPr/>
        </p:nvSpPr>
        <p:spPr>
          <a:xfrm>
            <a:off x="39600" y="4556160"/>
            <a:ext cx="75232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ucinda Bateman, M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atigue Consultation Clinic Fou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Leading ME/CFS Expe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471600" y="6054840"/>
            <a:ext cx="35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16324"/>
                </a:solidFill>
                <a:uFillTx/>
                <a:latin typeface="Arial Narrow"/>
              </a:rPr>
              <a:t>www.SolveCFS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4" descr="Theme image"/>
          <p:cNvPicPr/>
          <p:nvPr/>
        </p:nvPicPr>
        <p:blipFill>
          <a:blip r:embed="rId2"/>
          <a:stretch/>
        </p:blipFill>
        <p:spPr>
          <a:xfrm>
            <a:off x="6532560" y="4278240"/>
            <a:ext cx="146520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447920" y="35053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Arial Narrow"/>
                <a:ea typeface="Arial"/>
              </a:rPr>
              <a:t>Lucinda Bateman MD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Arial Narrow"/>
                <a:ea typeface="Arial"/>
              </a:rPr>
              <a:t>April 2015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685800" y="200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692640" y="1752480"/>
            <a:ext cx="8249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Will </a:t>
            </a:r>
            <a:r>
              <a:rPr b="0" lang="en-US" sz="4000" spc="-1" strike="noStrike">
                <a:solidFill>
                  <a:srgbClr val="ffc000"/>
                </a:solidFill>
                <a:latin typeface="Arial"/>
                <a:ea typeface="Arial"/>
              </a:rPr>
              <a:t>*SEID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Diagnostic Crite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Improve Diagnosis and Treat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609480" y="51055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Arial"/>
                <a:ea typeface="Arial"/>
              </a:rPr>
              <a:t>*Systemic Exertion Intolerance Dise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762120" y="49528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edede"/>
                </a:solidFill>
                <a:latin typeface="Constantia"/>
              </a:rPr>
              <a:t>www.iom.edu/reports/2015/me-cfs.aspx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NSTITUTE OF MEDICIN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report</a:t>
            </a:r>
            <a:br>
              <a:rPr sz="2000"/>
            </a:b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”BEYOND ME/CFS:</a:t>
            </a:r>
            <a:br>
              <a:rPr sz="3200"/>
            </a:b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REDEFINING AN ILLNESS”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utlines new diagnostic criter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rom </a:t>
            </a:r>
            <a:r>
              <a:rPr b="0" lang="en-US" sz="4000" spc="-1" strike="noStrike">
                <a:solidFill>
                  <a:srgbClr val="ffc000"/>
                </a:solidFill>
                <a:latin typeface="Calibri"/>
              </a:rPr>
              <a:t>SUMMARY: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PAGES 1-13)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836,000 to 2.5 million people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have ME/CF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An estimated 84-91% </a:t>
            </a: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not yet diagnosed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 (2004-2006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Constantia"/>
              </a:rPr>
              <a:t>Patients</a:t>
            </a:r>
            <a:r>
              <a:rPr b="0" lang="en-US" sz="2000" spc="-1" strike="noStrike">
                <a:solidFill>
                  <a:srgbClr val="ffc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c000"/>
                </a:solidFill>
                <a:latin typeface="Constantia"/>
              </a:rPr>
              <a:t>struggle for years</a:t>
            </a:r>
            <a:r>
              <a:rPr b="0" lang="en-US" sz="2000" spc="-1" strike="noStrike">
                <a:solidFill>
                  <a:srgbClr val="ffc000"/>
                </a:solidFill>
                <a:latin typeface="Constantia"/>
              </a:rPr>
              <a:t> before getting a diagnosi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75% take &gt; 1 year to get diagnosed (only 25% in first yr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30% took &gt;5 years to get a diagnosi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HCPs are often skeptical about the serious nature of the illness, and have the misconception that it is a psychogenic illness or even a "figment of the patient's imagination"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Constantia"/>
              </a:rPr>
              <a:t>&lt; 1/3 of medical schools</a:t>
            </a:r>
            <a:r>
              <a:rPr b="0" lang="en-US" sz="2000" spc="-1" strike="noStrike">
                <a:solidFill>
                  <a:srgbClr val="ffc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include ME/CFS-specific information on the curriculum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Constantia"/>
              </a:rPr>
              <a:t>Only 40% of medical textbooks</a:t>
            </a:r>
            <a:r>
              <a:rPr b="0" lang="en-US" sz="2000" spc="-1" strike="noStrike">
                <a:solidFill>
                  <a:srgbClr val="ffc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include information on ME/CFS (Introduction, page 16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HY IS ME/CFS NOT DIAGNOSED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FS is often seen as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diagnosis of exclusion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or a </a:t>
            </a:r>
            <a:r>
              <a:rPr b="1" lang="en-US" sz="2400" spc="-1" strike="noStrike">
                <a:solidFill>
                  <a:srgbClr val="ffc000"/>
                </a:solidFill>
                <a:latin typeface="Constantia"/>
              </a:rPr>
              <a:t>“garbage can”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diagnosi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nstantia"/>
              </a:rPr>
              <a:t>Definition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: </a:t>
            </a:r>
            <a:r>
              <a:rPr b="0" i="1" lang="en-US" sz="2400" spc="-1" strike="noStrike">
                <a:solidFill>
                  <a:srgbClr val="ffffff"/>
                </a:solidFill>
                <a:latin typeface="Constantia"/>
              </a:rPr>
              <a:t>A </a:t>
            </a:r>
            <a:r>
              <a:rPr b="1" i="1" lang="en-US" sz="2400" spc="-1" strike="noStrike">
                <a:solidFill>
                  <a:srgbClr val="ffc000"/>
                </a:solidFill>
                <a:latin typeface="Constantia"/>
              </a:rPr>
              <a:t>diagnosis of exclusion</a:t>
            </a:r>
            <a:r>
              <a:rPr b="0" i="1" lang="en-US" sz="2400" spc="-1" strike="noStrike">
                <a:solidFill>
                  <a:srgbClr val="ffc000"/>
                </a:solidFill>
                <a:latin typeface="Constanti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Constantia"/>
              </a:rPr>
              <a:t>is a diagnosis reached by a process of elimination, which may be necessary </a:t>
            </a:r>
            <a:r>
              <a:rPr b="0" i="1" lang="en-US" sz="2400" spc="-1" strike="noStrike">
                <a:solidFill>
                  <a:srgbClr val="00b0f0"/>
                </a:solidFill>
                <a:latin typeface="Constantia"/>
              </a:rPr>
              <a:t>if the illness cannot be established with complete confidence from history, examination and/or testing</a:t>
            </a:r>
            <a:r>
              <a:rPr b="0" lang="en-US" sz="2400" spc="-1" strike="noStrike">
                <a:solidFill>
                  <a:srgbClr val="00b0f0"/>
                </a:solidFill>
                <a:latin typeface="Constantia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his often causes delays or leads to misdiagnosis of a psychological problem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nstantia"/>
              </a:rPr>
              <a:t>LBMD: It can also lead to the habit of passing/dumping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i="1" lang="en-US" sz="2000" spc="-1" strike="noStrike">
                <a:solidFill>
                  <a:srgbClr val="ffffff"/>
                </a:solidFill>
                <a:latin typeface="Constantia"/>
              </a:rPr>
              <a:t>patients from doctor to doctor.  Sometimes no one takes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i="1" lang="en-US" sz="2000" spc="-1" strike="noStrike">
                <a:solidFill>
                  <a:srgbClr val="ffffff"/>
                </a:solidFill>
                <a:latin typeface="Constantia"/>
              </a:rPr>
              <a:t>responsibility for diagnosis or treatment of the ME/CF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60" name="Picture 5" descr="C:\Users\Cindy\AppData\Local\Microsoft\Windows\Temporary Internet Files\Content.IE5\C1ELRH1Z\0060-0807-2315-3503_Garbage_Can_with_Trash_and_Flowers_Inside_clipart_image[1].jpg"/>
          <p:cNvPicPr/>
          <p:nvPr/>
        </p:nvPicPr>
        <p:blipFill>
          <a:blip r:embed="rId1"/>
          <a:stretch/>
        </p:blipFill>
        <p:spPr>
          <a:xfrm>
            <a:off x="7238880" y="4495680"/>
            <a:ext cx="171288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26640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    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Y IS ME/CF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     NOT DIAGNOSED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Multiple overlapping subjectively defined case definitions  </a:t>
            </a:r>
            <a:r>
              <a:rPr b="0" i="1" lang="en-US" sz="2000" spc="-1" strike="noStrike">
                <a:solidFill>
                  <a:srgbClr val="ffffff"/>
                </a:solidFill>
                <a:latin typeface="Constantia"/>
              </a:rPr>
              <a:t>-- In my opinion, often ignored or misused by the majority of physician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Constantia"/>
              </a:rPr>
              <a:t>Fukuda CFS criteria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.   </a:t>
            </a:r>
            <a:r>
              <a:rPr b="0" i="1" lang="en-US" sz="2000" spc="-1" strike="noStrike">
                <a:solidFill>
                  <a:srgbClr val="ffffff"/>
                </a:solidFill>
                <a:latin typeface="Constantia"/>
              </a:rPr>
              <a:t>--- I would not be surprised if few physicians are able to correctly list these diagnostic criteria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Constantia"/>
              </a:rPr>
              <a:t>Canadian Consensus Criteria for ME/CFS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.   </a:t>
            </a:r>
            <a:r>
              <a:rPr b="0" i="1" lang="en-US" sz="2000" spc="-1" strike="noStrike">
                <a:solidFill>
                  <a:srgbClr val="ffffff"/>
                </a:solidFill>
                <a:latin typeface="Constantia"/>
              </a:rPr>
              <a:t>--- I find few physicians who are familiar with these diagnostic criteria.  For ICC ME, even fewer U.S. physicians are aware these criteria exist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Constantia"/>
              </a:rPr>
              <a:t>Fibromyalgia</a:t>
            </a:r>
            <a:r>
              <a:rPr b="0" lang="en-US" sz="2400" spc="-1" strike="noStrike">
                <a:solidFill>
                  <a:srgbClr val="00ffff"/>
                </a:solidFill>
                <a:latin typeface="Constantia"/>
              </a:rPr>
              <a:t>. </a:t>
            </a:r>
            <a:r>
              <a:rPr b="0" i="1" lang="en-US" sz="2000" spc="-1" strike="noStrike">
                <a:solidFill>
                  <a:srgbClr val="ffffff"/>
                </a:solidFill>
                <a:latin typeface="Constantia"/>
              </a:rPr>
              <a:t> —The term FM is more used and integrated due to FDA drug approval.  But in my experience, many HCPs call everything in their fatigue/pain spectrum  “garbage can” </a:t>
            </a:r>
            <a:r>
              <a:rPr b="1" i="1" lang="en-US" sz="2000" spc="-1" strike="noStrike">
                <a:solidFill>
                  <a:srgbClr val="ffffff"/>
                </a:solidFill>
                <a:latin typeface="Constantia"/>
              </a:rPr>
              <a:t>either</a:t>
            </a:r>
            <a:r>
              <a:rPr b="0" i="1" lang="en-US" sz="2000" spc="-1" strike="noStrike">
                <a:solidFill>
                  <a:srgbClr val="ffffff"/>
                </a:solidFill>
                <a:latin typeface="Constantia"/>
              </a:rPr>
              <a:t> FM or CFS, whichever is the more familiar term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63" name="Picture 6" descr="C:\Users\Cindy\AppData\Local\Microsoft\Windows\Temporary Internet Files\Content.IE5\IOQV5051\circlesoverlap[1].jpg"/>
          <p:cNvPicPr/>
          <p:nvPr/>
        </p:nvPicPr>
        <p:blipFill>
          <a:blip r:embed="rId1"/>
          <a:stretch/>
        </p:blipFill>
        <p:spPr>
          <a:xfrm>
            <a:off x="152280" y="190440"/>
            <a:ext cx="1600200" cy="1065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C:\Users\Cindy\AppData\Local\Microsoft\Windows\Temporary Internet Files\Content.IE5\C1ELRH1Z\misconception[1].png"/>
          <p:cNvPicPr/>
          <p:nvPr/>
        </p:nvPicPr>
        <p:blipFill>
          <a:blip r:embed="rId2"/>
          <a:stretch/>
        </p:blipFill>
        <p:spPr>
          <a:xfrm>
            <a:off x="7543800" y="157320"/>
            <a:ext cx="146988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TREATMENT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OF ME/CFS?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Once diagnosed, patients frequently complain that </a:t>
            </a:r>
            <a:r>
              <a:rPr b="0" lang="en-US" sz="2400" spc="-1" strike="noStrike">
                <a:solidFill>
                  <a:srgbClr val="ffc000"/>
                </a:solidFill>
                <a:latin typeface="Constantia"/>
              </a:rPr>
              <a:t>HCPs do not know how to deliver appropriate care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for their condition, and often subject them to treatment strategies that exacerbate their symptoms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dede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Many patients report being </a:t>
            </a:r>
            <a:r>
              <a:rPr b="0" lang="en-US" sz="2400" spc="-1" strike="noStrike">
                <a:solidFill>
                  <a:srgbClr val="ffc000"/>
                </a:solidFill>
                <a:latin typeface="Constantia"/>
              </a:rPr>
              <a:t>subject to hostile attitudes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from their HCP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(IOM Report Introduction, page 16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i="1" lang="en-US" sz="2400" spc="-1" strike="noStrike">
                <a:solidFill>
                  <a:srgbClr val="ffffff"/>
                </a:solidFill>
                <a:latin typeface="Constantia"/>
              </a:rPr>
              <a:t>LBMD--- many cannot find a doctor who will accept a patient with the diagnosis and/or provide care, or they are told “I don’t see people with that diagnosis.”  Patients are sometimes </a:t>
            </a:r>
            <a:r>
              <a:rPr b="0" i="1" lang="en-US" sz="2400" spc="-1" strike="noStrike">
                <a:solidFill>
                  <a:srgbClr val="ffcc00"/>
                </a:solidFill>
                <a:latin typeface="Constantia"/>
              </a:rPr>
              <a:t>told there is no treatment</a:t>
            </a:r>
            <a:r>
              <a:rPr b="0" i="1" lang="en-US" sz="2400" spc="-1" strike="noStrike">
                <a:solidFill>
                  <a:srgbClr val="ffffff"/>
                </a:solidFill>
                <a:latin typeface="Constantia"/>
              </a:rPr>
              <a:t> for CF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2T19:30:45Z</dcterms:created>
  <dc:creator>Cindy Bateman</dc:creator>
  <dc:description/>
  <dc:language>en-US</dc:language>
  <cp:lastModifiedBy>Leigh Reynolds</cp:lastModifiedBy>
  <cp:lastPrinted>2015-04-14T22:22:42Z</cp:lastPrinted>
  <dcterms:modified xsi:type="dcterms:W3CDTF">2015-04-17T18:05:01Z</dcterms:modified>
  <cp:revision>47</cp:revision>
  <dc:subject/>
  <dc:title>Will SEID Diagnostic Criteria Improve Diagnosis and Treatment?</dc:title>
</cp:coreProperties>
</file>